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915-19C8-4DA6-9A4B-093BE4A0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09D-4771-4B0F-B482-7504D1EC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CAD-EB57-457D-8E01-91E9E2EB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58D-5B85-4728-8EE5-1D8E4AD5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C12-92A6-456A-8FF0-6AB52B3F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5BF-A95C-448C-9BC0-F00AA069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728-B5E4-46B0-95CA-01342AC5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956-E0EC-4895-BEAE-F818379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BB6-5540-430F-93FD-B195FB90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342-D4A3-481F-968D-836536D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A1E-6AB8-464D-AC2E-C56CD06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C7C-AAEE-44B0-8F15-0692FBC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040-A283-4D0C-A37A-A57B4CDE1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metric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314440"/>
            <a:ext cx="8763120" cy="2333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600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Geometric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28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2819520" cy="6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2971800"/>
            <a:ext cx="61722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001000" cy="16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94120" y="1219320"/>
            <a:ext cx="2521080" cy="41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48769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867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001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05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55245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57913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21:46Z</dcterms:created>
  <dc:creator>Susannah Graham</dc:creator>
  <dc:description/>
  <dc:language>en-US</dc:language>
  <cp:lastModifiedBy>Susannah Graham</cp:lastModifiedBy>
  <dcterms:modified xsi:type="dcterms:W3CDTF">2009-08-04T21:48:40Z</dcterms:modified>
  <cp:revision>2</cp:revision>
  <dc:subject/>
  <dc:title>Lesson 8.6 Geometric Sequence</dc:title>
</cp:coreProperties>
</file>